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EF83-A6C5-467C-96CA-9E300763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1793-E333-484E-92E4-72850EFF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3EEC-2CDA-45F0-887C-604BA850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ACF0-D804-435D-A6FE-CCC9A2C6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E4EB-D4EA-46E5-B365-C97E349C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8353-2644-465D-A739-5E7A54BF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0D05-A402-4D14-AF33-2B0E7644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E5D8-FD2E-4CE5-AF49-3F8B6D43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196E-3C3B-4CE1-B394-4DD3FE88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08D6-8A13-4E96-8135-7B30B0E5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A2BE-C81C-479F-A85C-8360FB68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7C46-CE47-4DAE-BD27-C590CC52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1F54-3391-47E8-9F57-422D60F0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C1FB-7BCE-447F-B2BC-A9CC993A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50D8-0C02-4378-82D5-0BD5EB2B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8627-3D82-4025-BA23-C939F381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BAD5-4E84-4AAE-8E67-771E52AC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252C-85E9-44C1-975B-D5E71204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1303-635A-4A31-893F-8112FECC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438A-0BEE-4F7B-AEDA-CF0DAFF7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3EB2-62E6-4118-BC3E-C18628F1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CC58-1C14-4264-A19F-E5C77049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4927-41C8-4227-B9B5-7B2E970D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9A3C-233A-48DA-BF4B-E348AFBC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6CAE-0EA2-450A-97AC-B54AF734B5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372F-5956-487E-93A8-CBDA363BA4D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d/Clock_in_Kings_Cross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Unit 2 – Leaving Hom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881360"/>
            <a:ext cx="619128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4 – Becoming an Ad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135240" y="3703680"/>
            <a:ext cx="2516400" cy="23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CA" sz="1800" spc="-1" strike="noStrike">
                <a:solidFill>
                  <a:srgbClr val="420000"/>
                </a:solidFill>
                <a:latin typeface="Times New Roman"/>
              </a:rPr>
              <a:t>Erik Erikson’s Eight Stages of Life </a:t>
            </a:r>
            <a:br>
              <a:rPr sz="1800"/>
            </a:br>
            <a:r>
              <a:rPr b="1" lang="en-CA" sz="1800" spc="-1" strike="noStrike">
                <a:solidFill>
                  <a:srgbClr val="420000"/>
                </a:solidFill>
                <a:latin typeface="Times New Roman"/>
              </a:rPr>
              <a:t>Young Adulthood: 18 to 35</a:t>
            </a:r>
            <a:br>
              <a:rPr sz="1800"/>
            </a:br>
            <a:r>
              <a:rPr b="1" lang="en-CA" sz="1800" spc="-1" strike="noStrike">
                <a:solidFill>
                  <a:srgbClr val="420000"/>
                </a:solidFill>
                <a:latin typeface="Times New Roman"/>
              </a:rPr>
              <a:t>Ego Development Outcome: Intimacy &amp; Solidarity vs. Isolation</a:t>
            </a:r>
            <a:br>
              <a:rPr sz="1800"/>
            </a:br>
            <a:r>
              <a:rPr b="1" lang="en-CA" sz="1800" spc="-1" strike="noStrike">
                <a:solidFill>
                  <a:srgbClr val="420000"/>
                </a:solidFill>
                <a:latin typeface="Times New Roman"/>
              </a:rPr>
              <a:t>Basic Strengths: Affiliation and Love</a:t>
            </a:r>
            <a:br>
              <a:rPr sz="1800"/>
            </a:b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9966"/>
                </a:solidFill>
                <a:latin typeface="Times New Roman"/>
              </a:rPr>
              <a:t>Intimacy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is being able to merge your identity with someone else’s without losing yourself in the 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 clear sense of who you are is required to form a </a:t>
            </a:r>
            <a:r>
              <a:rPr b="0" lang="en-CA" sz="2400" spc="-1" strike="noStrike">
                <a:solidFill>
                  <a:srgbClr val="999966"/>
                </a:solidFill>
                <a:latin typeface="Times New Roman"/>
              </a:rPr>
              <a:t>trusting relationship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– without a strong identity, a relationship could be shall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strength achieved at this stage is </a:t>
            </a:r>
            <a:r>
              <a:rPr b="0" lang="en-CA" sz="2400" spc="-1" strike="noStrike">
                <a:solidFill>
                  <a:srgbClr val="999966"/>
                </a:solidFill>
                <a:latin typeface="Times New Roman"/>
              </a:rPr>
              <a:t>love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– an overwhelming sense of caring &amp; generosity toward an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rikson suggested that women, not men, might be able to form intimacy and identity as the same time by forming relationships with others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CA" sz="2400" spc="-1" strike="noStrike">
                <a:solidFill>
                  <a:srgbClr val="420000"/>
                </a:solidFill>
                <a:latin typeface="Times New Roman"/>
              </a:rPr>
              <a:t>Erik Erikson’s Eight Stages of Life </a:t>
            </a:r>
            <a:br>
              <a:rPr sz="2400"/>
            </a:br>
            <a:br>
              <a:rPr sz="1800"/>
            </a:br>
            <a:r>
              <a:rPr b="1" lang="en-CA" sz="1800" spc="-1" strike="noStrike">
                <a:solidFill>
                  <a:srgbClr val="420000"/>
                </a:solidFill>
                <a:latin typeface="Times New Roman"/>
              </a:rPr>
              <a:t>Middle Adulthood: 35 to 55 or 65</a:t>
            </a:r>
            <a:br>
              <a:rPr sz="1800"/>
            </a:br>
            <a:r>
              <a:rPr b="1" lang="en-CA" sz="1800" spc="-1" strike="noStrike">
                <a:solidFill>
                  <a:srgbClr val="420000"/>
                </a:solidFill>
                <a:latin typeface="Times New Roman"/>
              </a:rPr>
              <a:t>Ego Development Outcome: Generativity vs. Self absorption or Stagnation</a:t>
            </a:r>
            <a:br>
              <a:rPr sz="1800"/>
            </a:br>
            <a:r>
              <a:rPr b="1" lang="en-CA" sz="1800" spc="-1" strike="noStrike">
                <a:solidFill>
                  <a:srgbClr val="420000"/>
                </a:solidFill>
                <a:latin typeface="Times New Roman"/>
              </a:rPr>
              <a:t>Basic Strengths: Production and Care</a:t>
            </a:r>
            <a:br>
              <a:rPr sz="1800"/>
            </a:b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ults focus on their contribution to soc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allenge is to decide how to make individual contribution to soc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the strength of ca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, people develop this by having child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 develop it by completing good 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26920" y="1109520"/>
            <a:ext cx="7561440" cy="498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CA" sz="2800" spc="-1" strike="noStrike">
                <a:solidFill>
                  <a:srgbClr val="420000"/>
                </a:solidFill>
                <a:latin typeface="Times New Roman"/>
              </a:rPr>
              <a:t>Jane Loevinger’s Theory</a:t>
            </a:r>
            <a:br>
              <a:rPr sz="2800"/>
            </a:br>
            <a:r>
              <a:rPr b="1" lang="en-CA" sz="2800" spc="-1" strike="noStrike">
                <a:solidFill>
                  <a:srgbClr val="420000"/>
                </a:solidFill>
                <a:latin typeface="Times New Roman"/>
              </a:rPr>
              <a:t> of Ego Development</a:t>
            </a:r>
            <a:br>
              <a:rPr sz="2800"/>
            </a:br>
            <a:r>
              <a:rPr b="0" lang="en-CA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Stages in forming the ego (ego – understanding of sel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infant – one must understand that you’re an individual, separate from your m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ll Ego – you become an </a:t>
            </a:r>
            <a:r>
              <a:rPr b="1" lang="en-US" sz="2400" spc="-1" strike="noStrike">
                <a:solidFill>
                  <a:srgbClr val="999966"/>
                </a:solidFill>
                <a:latin typeface="Times New Roman"/>
              </a:rPr>
              <a:t>autonomous sel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self-reliant person who accepts oneself and others as multifaceted &amp; uni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ges determined solely by the individual’s psychological clo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adults never achieve full </a:t>
            </a:r>
            <a:r>
              <a:rPr b="1" lang="en-US" sz="2400" spc="-1" strike="noStrike">
                <a:solidFill>
                  <a:srgbClr val="999966"/>
                </a:solidFill>
                <a:latin typeface="Times New Roman"/>
              </a:rPr>
              <a:t>ego develop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ng adults are at a </a:t>
            </a:r>
            <a:r>
              <a:rPr b="1" lang="en-US" sz="2400" spc="-1" strike="noStrike">
                <a:solidFill>
                  <a:srgbClr val="cccc00"/>
                </a:solidFill>
                <a:latin typeface="Times New Roman"/>
              </a:rPr>
              <a:t>transitional self-awa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evel between the </a:t>
            </a:r>
            <a:r>
              <a:rPr b="1" lang="en-US" sz="2400" spc="-1" strike="noStrike">
                <a:solidFill>
                  <a:srgbClr val="999966"/>
                </a:solidFill>
                <a:latin typeface="Times New Roman"/>
              </a:rPr>
              <a:t>conformist st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amp; the </a:t>
            </a:r>
            <a:r>
              <a:rPr b="1" lang="en-US" sz="2400" spc="-1" strike="noStrike">
                <a:solidFill>
                  <a:srgbClr val="999966"/>
                </a:solidFill>
                <a:latin typeface="Times New Roman"/>
              </a:rPr>
              <a:t>conscientious stages</a:t>
            </a:r>
            <a:r>
              <a:rPr b="0" lang="en-US" sz="2400" spc="-1" strike="noStrike">
                <a:solidFill>
                  <a:srgbClr val="9999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308720" y="0"/>
            <a:ext cx="133380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420000"/>
                </a:solidFill>
                <a:latin typeface="Times New Roman"/>
              </a:rPr>
              <a:t>Jane Loevinger’s Theory of Ego Development</a:t>
            </a:r>
            <a:r>
              <a:rPr b="0" lang="en-CA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999966"/>
                </a:solidFill>
                <a:latin typeface="Times New Roman"/>
              </a:rPr>
              <a:t>Conformist Stage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In attempting to classify human experience, adolescences view life as black &amp; white, so that they can see where they belo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y begin to understand &amp; except individual differences &amp; to distinguish the variations in feelings &amp; opinions that make us uniqu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999966"/>
                </a:solidFill>
                <a:latin typeface="Times New Roman"/>
              </a:rPr>
              <a:t>Conscientious Stage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Able to appreciate others as individuals in a reciprocal relationshi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Unlike Erikson, she believes that most people spend a life time developing this ability, thus determined by the psychological clock, not by chronological age nor environm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0000"/>
                </a:solidFill>
                <a:latin typeface="Times New Roman"/>
              </a:rPr>
              <a:t>The Family Life Cycle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viduals are launched from their families of origin. Parents &amp; children must separate so that young people can gain emotional responsibility for themselves Development involves change in response to crisis so that the family can move on to a different st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ollowing three tasks must be completed: Young adults must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  Sort out emotionally what they will </a:t>
            </a:r>
            <a:r>
              <a:rPr b="0" lang="en-US" sz="2000" spc="-1" strike="noStrike">
                <a:solidFill>
                  <a:srgbClr val="999966"/>
                </a:solidFill>
                <a:latin typeface="Times New Roman"/>
              </a:rPr>
              <a:t>take along from the family origin, what they will leave behi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&amp; what they will create for themselv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  Develop </a:t>
            </a:r>
            <a:r>
              <a:rPr b="0" lang="en-US" sz="2000" spc="-1" strike="noStrike">
                <a:solidFill>
                  <a:srgbClr val="999966"/>
                </a:solidFill>
                <a:latin typeface="Times New Roman"/>
              </a:rPr>
              <a:t>new intimate relationship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peers outside the family to provide social &amp; emotional sup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  Make their first tentative commitment to a </a:t>
            </a:r>
            <a:r>
              <a:rPr b="0" lang="en-US" sz="2000" spc="-1" strike="noStrike">
                <a:solidFill>
                  <a:srgbClr val="999966"/>
                </a:solidFill>
                <a:latin typeface="Times New Roman"/>
              </a:rPr>
              <a:t>career or workpl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o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443640" y="260280"/>
            <a:ext cx="2371680" cy="11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1319040"/>
            <a:ext cx="8424720" cy="42548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amily Life Cycl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0000"/>
                </a:solidFill>
                <a:latin typeface="Times New Roman"/>
              </a:rPr>
              <a:t>Daniel Levinson’s Theory </a:t>
            </a:r>
            <a:br>
              <a:rPr sz="2400"/>
            </a:br>
            <a:r>
              <a:rPr b="1" lang="en-US" sz="2400" spc="-1" strike="noStrike">
                <a:solidFill>
                  <a:srgbClr val="420000"/>
                </a:solidFill>
                <a:latin typeface="Times New Roman"/>
              </a:rPr>
              <a:t>of the Seasons of Life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arly adulthood last 25 years – 17 to early for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7 to 22 – leave behind adolescence &amp; prepare for adult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2 to 28 – entering adulthood by forming a preliminary life struct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ing a </a:t>
            </a:r>
            <a:r>
              <a:rPr b="0" lang="en-US" sz="2000" spc="-1" strike="noStrike">
                <a:solidFill>
                  <a:srgbClr val="999966"/>
                </a:solidFill>
                <a:latin typeface="Times New Roman"/>
              </a:rPr>
              <a:t>D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amp; giving it a place in struct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  Forming mentor relationship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  Forming an occup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960" indent="-48780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ing love relationships, marriage &amp; fami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66"/>
                </a:solidFill>
                <a:latin typeface="Times New Roman"/>
              </a:rPr>
              <a:t>The D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960" indent="-48780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se of self in the adult world &amp; the core of life struct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960" indent="-48780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ation of occupational, family &amp; commun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960" indent="-48780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the creative exploration of various options with a pragmatic structure to support dre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 to 33 – re-evaluate their life-structures/dream. Sort of the get real time to modify or exclu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210440" y="0"/>
            <a:ext cx="193356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416720" cy="5004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Levins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420000"/>
                </a:solidFill>
                <a:latin typeface="Times New Roman"/>
              </a:rPr>
              <a:t>Klaus Riegel’s Interpretation of Development</a:t>
            </a:r>
            <a:r>
              <a:rPr b="0" lang="en-CA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ment does not occur in predictable stages, but different with each individual as their interact with external &amp; internal chang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9966"/>
                </a:solidFill>
                <a:latin typeface="Times New Roman"/>
              </a:rPr>
              <a:t>Individual Psychological Dimens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describes emotional maturity &amp; independence, &amp; the maturity of mental proce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9966"/>
                </a:solidFill>
                <a:latin typeface="Times New Roman"/>
              </a:rPr>
              <a:t>Individual Biological Dimens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describes physical &amp; sexual maturit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9966"/>
                </a:solidFill>
                <a:latin typeface="Times New Roman"/>
              </a:rPr>
              <a:t>Cultural-Sociological Dimens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describes the expectations &amp; opportunities that each society defines for individu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999966"/>
                </a:solidFill>
                <a:latin typeface="Times New Roman"/>
              </a:rPr>
              <a:t>Environmental Dimens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describes the physical, economic, &amp; political environment in which the individuals liv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y change in one dimension requires an adjustment in one or more of the other dimens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58920" y="2349360"/>
            <a:ext cx="6400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66"/>
                </a:solidFill>
                <a:latin typeface="Arial"/>
              </a:rPr>
              <a:t>Psycholog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roach to examine adolescence to adulthood – uses contemporary developmental the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es patterns of men &amp; women in Canada’s post-industrial socie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es individuals </a:t>
            </a:r>
            <a:r>
              <a:rPr b="0" lang="en-US" sz="2000" spc="-1" strike="noStrike">
                <a:solidFill>
                  <a:srgbClr val="999966"/>
                </a:solidFill>
                <a:latin typeface="Arial"/>
              </a:rPr>
              <a:t>inter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families &amp; other groups in society to learn who they will become as an adul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es </a:t>
            </a:r>
            <a:r>
              <a:rPr b="0" lang="en-US" sz="2000" spc="-1" strike="noStrike">
                <a:solidFill>
                  <a:srgbClr val="999966"/>
                </a:solidFill>
                <a:latin typeface="Arial"/>
              </a:rPr>
              <a:t>decis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they prepare to become an adul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420000"/>
                </a:solidFill>
                <a:latin typeface="Times New Roman"/>
              </a:rPr>
              <a:t>Leonard Pearlin’s Theory of </a:t>
            </a:r>
            <a:br>
              <a:rPr sz="2400"/>
            </a:br>
            <a:r>
              <a:rPr b="1" lang="en-CA" sz="2400" spc="-1" strike="noStrike">
                <a:solidFill>
                  <a:srgbClr val="420000"/>
                </a:solidFill>
                <a:latin typeface="Times New Roman"/>
              </a:rPr>
              <a:t>Psychological Distress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empts to rationalize how development can be unique yet appear to occur in a common pattern See development as a lifetime of continuous change in which individuals might experience occasional periods of sta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  Individuals characteristics, such as gender, race, intelligence, family background, personality &amp; edu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  The range of skills individuals have for coping with stress or chan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  The availability of social support networ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   The nature &amp; timing of stress that requires respon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858080" y="0"/>
            <a:ext cx="12859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0000"/>
                </a:solidFill>
                <a:latin typeface="Times New Roman"/>
              </a:rPr>
              <a:t>Socialization for Adulthood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66"/>
                </a:solidFill>
                <a:latin typeface="Times New Roman"/>
              </a:rPr>
              <a:t>As you become an adult, new roles develop in 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r Relationshi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r Wor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r Routi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r Assump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66"/>
                </a:solidFill>
                <a:latin typeface="Times New Roman"/>
              </a:rPr>
              <a:t>Re-socialization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card old behaviour &amp; change to new 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9966"/>
                </a:solidFill>
                <a:latin typeface="Times New Roman"/>
              </a:rPr>
              <a:t>Anticipatory Socialization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lows people to learn &amp; practice role behaviour before they take on the new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9966"/>
                </a:solidFill>
                <a:latin typeface="Times New Roman"/>
              </a:rPr>
              <a:t>Major questions in terms of socialization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ndividuals form an identity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ndividuals choose an occup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020000" y="476280"/>
            <a:ext cx="19684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Identity &amp; Self-Esteem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0417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Who are you?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What is Self-Esteem?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Symbolic Interactionism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651640" y="2195640"/>
            <a:ext cx="2143080" cy="26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000"/>
                </a:solidFill>
                <a:latin typeface="Times New Roman"/>
              </a:rPr>
              <a:t>Identity &amp; Self-Estee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Times New Roman"/>
              </a:rPr>
              <a:t>Self according to Erikson: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onsistent sense of sel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realistic perception of the wor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ense of control over one’s own lif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Times New Roman"/>
              </a:rPr>
              <a:t>Self according to Freud:</a:t>
            </a:r>
            <a:r>
              <a:rPr b="0" lang="en-CA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mature ego that is able to modify one’s ideas &amp; action to fit into the real world in culturally appropriate way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Times New Roman"/>
              </a:rPr>
              <a:t>Self according to Daniel Levinson:</a:t>
            </a:r>
            <a:r>
              <a:rPr b="0" lang="en-CA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Dream – the core of lif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Times New Roman"/>
              </a:rPr>
              <a:t>Self-Este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not only a sense of “who you are” but also a sense of “who you will be”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Socialization 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within the Family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999966"/>
                </a:solidFill>
                <a:latin typeface="Times New Roman"/>
              </a:rPr>
              <a:t>fami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place that you develop socialization skil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imary role for your identity develop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eople support you in completing challenging activ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you develop a sense of control  self-este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you acquire much of your persona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you develop your race, religion &amp; ethnic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you get instant feedback on your decisions – praise, discip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you earn your own autonom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524640" y="1890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The Role of School </a:t>
            </a:r>
            <a:br>
              <a:rPr sz="3200"/>
            </a:b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in Socialization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66"/>
                </a:solidFill>
                <a:latin typeface="Times New Roman"/>
              </a:rPr>
              <a:t>Scho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where you 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competence – ability to accomplish things that are worthw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quire skills deemed essential for adult ro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 your first step of independ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feedback from teachers &amp; pe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adolescent can choose your pe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743880" y="0"/>
            <a:ext cx="240012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0000"/>
                </a:solidFill>
                <a:latin typeface="Times New Roman"/>
              </a:rPr>
              <a:t>Preparing for an Occupation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people live to work, others work to l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 is essential for gaining independ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merican study suggest that 88% of women &amp; 91% of men identify their work as a major part of their ident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tisfaction in the workplace is linked to better health, lower stress levels, &amp; the ability to balance home &amp; wo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osing an occupation is relatively new – in the past, people would often follow the path of their relativ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66"/>
                </a:solidFill>
                <a:latin typeface="Times New Roman"/>
              </a:rPr>
              <a:t>Famil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vide inherited intellectual abilities, social &amp; cultural attitudes &amp; skil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66"/>
                </a:solidFill>
                <a:latin typeface="Times New Roman"/>
              </a:rPr>
              <a:t>Schoo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vide community support for anticipatory soci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66"/>
                </a:solidFill>
                <a:latin typeface="Times New Roman"/>
              </a:rPr>
              <a:t>Socie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vides job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2124000" cy="14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Transition to Adulthood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66"/>
                </a:solidFill>
                <a:latin typeface="Times New Roman"/>
              </a:rPr>
              <a:t>Questions to think about…</a:t>
            </a:r>
            <a:r>
              <a:rPr b="1" lang="en-US" sz="3200" spc="-1" strike="noStrike">
                <a:solidFill>
                  <a:srgbClr val="9999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es becoming an adult occur in predictable stage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this predictable stages different based on the society that you live i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this process unique for each individual? (Same time, same space?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is this process of becoming an adult changing in Canada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Rites of Passag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development is marked by distinct turning points (puberty, graduation, driver’s license, marriage, parenthoo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ociety has different rites of pass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e Pace of Development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51832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Canada, progress from one stage to another can be described as the interaction of several clock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00000" y="3195720"/>
          <a:ext cx="5905440" cy="3632040"/>
        </p:xfrm>
        <a:graphic>
          <a:graphicData uri="http://schemas.openxmlformats.org/drawingml/2006/table">
            <a:tbl>
              <a:tblPr/>
              <a:tblGrid>
                <a:gridCol w="2448000"/>
                <a:gridCol w="1584360"/>
                <a:gridCol w="1873080"/>
              </a:tblGrid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66"/>
                          </a:solidFill>
                          <a:latin typeface="Times New Roman"/>
                        </a:rPr>
                        <a:t>Chronological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66"/>
                          </a:solidFill>
                          <a:latin typeface="Times New Roman"/>
                        </a:rPr>
                        <a:t>Biological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66"/>
                          </a:solidFill>
                          <a:latin typeface="Times New Roman"/>
                        </a:rPr>
                        <a:t>Psychological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years since birth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ge of majority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sical chang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in develop., mature ways of understanding of the worl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s in nutrition &amp; health has hastened cha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s, but difficult to det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" descr="File:Clock in Kings Cros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1125360"/>
            <a:ext cx="2411280" cy="187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6877080" y="3213000"/>
          <a:ext cx="2016000" cy="360072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66"/>
                          </a:solidFill>
                          <a:latin typeface="Times New Roman"/>
                        </a:rPr>
                        <a:t>Social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table for society’s expectations for events to occu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s with social norm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Developmental Theories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</a:t>
            </a:r>
            <a:r>
              <a:rPr b="0" lang="en-US" sz="2400" spc="-1" strike="noStrike">
                <a:solidFill>
                  <a:srgbClr val="999966"/>
                </a:solidFill>
                <a:latin typeface="Times New Roman"/>
              </a:rPr>
              <a:t>identify patter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life &amp; descri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th or changes in human behaviour as </a:t>
            </a:r>
            <a:r>
              <a:rPr b="0" lang="en-US" sz="2400" spc="-1" strike="noStrike">
                <a:solidFill>
                  <a:srgbClr val="999966"/>
                </a:solidFill>
                <a:latin typeface="Times New Roman"/>
              </a:rPr>
              <a:t>people  ma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uggest that growth &amp; improvement occur as individuals </a:t>
            </a:r>
            <a:r>
              <a:rPr b="0" lang="en-US" sz="2400" spc="-1" strike="noStrike">
                <a:solidFill>
                  <a:srgbClr val="999966"/>
                </a:solidFill>
                <a:latin typeface="Times New Roman"/>
              </a:rPr>
              <a:t>progress from one stage to n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ly when they are rea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 suggest that the changes in stages occurs are </a:t>
            </a:r>
            <a:r>
              <a:rPr b="0" lang="en-US" sz="2400" spc="-1" strike="noStrike">
                <a:solidFill>
                  <a:srgbClr val="999966"/>
                </a:solidFill>
                <a:latin typeface="Times New Roman"/>
              </a:rPr>
              <a:t>age-link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 suggest that there are </a:t>
            </a:r>
            <a:r>
              <a:rPr b="0" lang="en-US" sz="2400" spc="-1" strike="noStrike">
                <a:solidFill>
                  <a:srgbClr val="999966"/>
                </a:solidFill>
                <a:latin typeface="Times New Roman"/>
              </a:rPr>
              <a:t>no st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evelopment reflects constant 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All agree that the behaviour of individuals results from </a:t>
            </a:r>
            <a:r>
              <a:rPr b="0" lang="en-US" sz="2400" spc="-1" strike="noStrike">
                <a:solidFill>
                  <a:srgbClr val="999966"/>
                </a:solidFill>
                <a:latin typeface="Times New Roman"/>
              </a:rPr>
              <a:t>inner psychological chan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response to life circumst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420000"/>
                </a:solidFill>
                <a:latin typeface="Times New Roman"/>
              </a:rPr>
              <a:t>Erik Erikson’s Eight </a:t>
            </a:r>
            <a:br>
              <a:rPr sz="4000"/>
            </a:br>
            <a:r>
              <a:rPr b="0" lang="en-CA" sz="4000" spc="-1" strike="noStrike">
                <a:solidFill>
                  <a:srgbClr val="420000"/>
                </a:solidFill>
                <a:latin typeface="Times New Roman"/>
              </a:rPr>
              <a:t>Stages of Life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ychological stages of human develop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-4320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es on individual’s </a:t>
            </a:r>
            <a:r>
              <a:rPr b="0" lang="en-US" sz="2400" spc="-1" strike="noStrike">
                <a:solidFill>
                  <a:srgbClr val="999966"/>
                </a:solidFill>
                <a:latin typeface="Times New Roman"/>
              </a:rPr>
              <a:t>identity &amp; mat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-4320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tage presents a </a:t>
            </a:r>
            <a:r>
              <a:rPr b="0" lang="en-US" sz="2400" spc="-1" strike="noStrike">
                <a:solidFill>
                  <a:srgbClr val="999966"/>
                </a:solidFill>
                <a:latin typeface="Times New Roman"/>
              </a:rPr>
              <a:t>dilem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son is challenged by new situations &amp; circumstances in lif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-4320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are pushed through stages by </a:t>
            </a:r>
            <a:r>
              <a:rPr b="0" lang="en-US" sz="2400" spc="-1" strike="noStrike">
                <a:solidFill>
                  <a:srgbClr val="999966"/>
                </a:solidFill>
                <a:latin typeface="Times New Roman"/>
              </a:rPr>
              <a:t>biological cl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2400" spc="-1" strike="noStrike">
                <a:solidFill>
                  <a:srgbClr val="999966"/>
                </a:solidFill>
                <a:latin typeface="Times New Roman"/>
              </a:rPr>
              <a:t>soci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ck. Identity development reflects the progress of psychological clo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-4320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en-US" sz="2400" spc="-1" strike="noStrike">
                <a:solidFill>
                  <a:srgbClr val="999966"/>
                </a:solidFill>
                <a:latin typeface="Times New Roman"/>
              </a:rPr>
              <a:t>resolving each dilem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individual acquires new strength needed to meet the next challenges of lif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-4320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66"/>
                </a:solidFill>
                <a:latin typeface="Times New Roman"/>
              </a:rPr>
              <a:t>Failure to resol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dilemma suggest that the person might experience problems later on in lif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05640" y="0"/>
            <a:ext cx="163836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420000"/>
                </a:solidFill>
                <a:latin typeface="Times New Roman"/>
              </a:rPr>
              <a:t>Erik Erikson’s Eight Stages of Life</a:t>
            </a:r>
            <a:r>
              <a:rPr b="0" lang="en-CA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en-CA" sz="1800" spc="-1" strike="noStrike">
                <a:solidFill>
                  <a:srgbClr val="420000"/>
                </a:solidFill>
                <a:latin typeface="Times New Roman"/>
              </a:rPr>
              <a:t>(p.101)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100" spc="-1" strike="noStrike">
                <a:solidFill>
                  <a:srgbClr val="999966"/>
                </a:solidFill>
                <a:latin typeface="Times New Roman"/>
              </a:rPr>
              <a:t>Infancy: Birth to 18 Month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go Development Outcome: Trust vs. Mistrus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asic strength: Drive and Hop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100" spc="-1" strike="noStrike">
                <a:solidFill>
                  <a:srgbClr val="999966"/>
                </a:solidFill>
                <a:latin typeface="Times New Roman"/>
              </a:rPr>
              <a:t>Early Childhood: 18 Months to 3 Years</a:t>
            </a:r>
            <a:r>
              <a:rPr b="0" lang="en-US" sz="2900" spc="-1" strike="noStrike">
                <a:solidFill>
                  <a:srgbClr val="999966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go Development Outcome: Autonomy vs. Sham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726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asic Strengths: Self-control, Courage, and Wil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100" spc="-1" strike="noStrike">
                <a:solidFill>
                  <a:srgbClr val="999966"/>
                </a:solidFill>
                <a:latin typeface="Times New Roman"/>
              </a:rPr>
              <a:t>Play Age: 3 to 5 Years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go Development Outcome: Initiative vs. Guil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asic Strength: Purpo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2100" spc="-1" strike="noStrike">
                <a:solidFill>
                  <a:srgbClr val="999966"/>
                </a:solidFill>
                <a:latin typeface="Times New Roman"/>
              </a:rPr>
              <a:t>School Age: 6 to 12 Yea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go Development Outcome: Industry vs. Inferiority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asic Strengths: Method and Compete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420000"/>
                </a:solidFill>
                <a:latin typeface="Times New Roman"/>
              </a:rPr>
              <a:t>Erik Erikson’s Eight Stages of Life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999966"/>
                </a:solidFill>
                <a:latin typeface="Times New Roman"/>
              </a:rPr>
              <a:t>5.Adolescence: 12 to 18 Years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Ego Development Outcome: Identity vs. Role Confus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-   Basic Strengths: Devotion and Fidel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en-CA" sz="1800" spc="-1" strike="noStrike">
                <a:solidFill>
                  <a:srgbClr val="999966"/>
                </a:solidFill>
                <a:latin typeface="Times New Roman"/>
              </a:rPr>
              <a:t>Young adulthood: 18 to 35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Ego Development Outcome: Intimacy and Solidarity vs. Isol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-   Basic Strengths: Affiliation and Lo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CA" sz="1800" spc="-1" strike="noStrike">
                <a:solidFill>
                  <a:srgbClr val="999966"/>
                </a:solidFill>
                <a:latin typeface="Times New Roman"/>
              </a:rPr>
              <a:t>Middle Adulthood: 35 to 55 or 65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Ego Development Outcome: Generativity vs. Self absorption or Stagn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-   Basic Strengths: Production and C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en-CA" sz="1800" spc="-1" strike="noStrike">
                <a:solidFill>
                  <a:srgbClr val="999966"/>
                </a:solidFill>
                <a:latin typeface="Times New Roman"/>
              </a:rPr>
              <a:t>Late Adulthood: 55 or 65 to Death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Ego Development Outcome: Integrity vs. Despai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-   Basic Strengths: Wis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21:59:39Z</dcterms:created>
  <dc:creator>dino</dc:creator>
  <dc:description/>
  <dc:language>en-US</dc:language>
  <cp:lastModifiedBy>OCDSB User</cp:lastModifiedBy>
  <dcterms:modified xsi:type="dcterms:W3CDTF">2011-03-03T14:11:28Z</dcterms:modified>
  <cp:revision>17</cp:revision>
  <dc:subject/>
  <dc:title>Unit 2 – Leaving Home</dc:title>
</cp:coreProperties>
</file>